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219-948B-49A3-BA16-8994FFFF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E18-74F3-49A4-B63E-9A7421EC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1C26-5286-4E1D-986D-751576CA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CF9-6338-47FB-8C32-E71ACACB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41AF-7D0C-447F-802F-5B37BBC6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5D28-835E-4D0C-8C5B-E1804781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E90F-E417-4672-A535-1BF9A202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8EA-6D7A-4C2E-99F0-A45ECA70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73A-2F97-4D3F-9D77-A559487C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545-EAAA-46D4-AB12-3C0D49CF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A90-833F-4A55-A843-2D2AF4BD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1D84-40B8-48DC-9A0E-7E7C6264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43AB-CEBF-4701-85AA-1DFCAEBC0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Me llamo________ </a:t>
            </a: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	</a:t>
            </a: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	</a:t>
            </a: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Clase 6 NH (602)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La fecha es el 20 de septiembre del 2012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CAC Futura Casual"/>
              </a:rPr>
              <a:t>Propósito # 3: 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¿Cómo son tus amigos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CAC Futura Casual"/>
              </a:rPr>
              <a:t>Actividad Inicial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Write any words, in Spanish, that you can use to describe a person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AC Futura Casual"/>
              </a:rPr>
              <a:t>Ejercicios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TEXTO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Le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Palabras</a:t>
            </a: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 p. R2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Copia y respo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Historieta 1</a:t>
            </a: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 p. R3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TEXTO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Copia y respo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Historieta 2</a:t>
            </a: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 p. R3 (1-4)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Copia y respo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Historieta 3</a:t>
            </a: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 p. R3 (1-4)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89548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AC Futura Casual"/>
              </a:rPr>
              <a:t>Tarea #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5:33:35Z</dcterms:created>
  <dc:creator>Helen Zumaeta</dc:creator>
  <dc:description/>
  <dc:language>en-US</dc:language>
  <cp:lastModifiedBy>Helen Zumaeta</cp:lastModifiedBy>
  <dcterms:modified xsi:type="dcterms:W3CDTF">2012-09-20T19:05:36Z</dcterms:modified>
  <cp:revision>4</cp:revision>
  <dc:subject/>
  <dc:title>Me llamo________   Clase 6 NH La fecha es el 11 de enero del 2012</dc:title>
</cp:coreProperties>
</file>